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0200-2FB8-4550-A136-F40A8C4A4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3E0C-BAAF-476A-8A15-CD8CD929A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AA6-6042-483B-A43E-2CB52EDC2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BB17-0696-4499-B118-1EA9DED55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F5FE-D977-4B6A-976E-71DCD797E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BEF-F8C3-49E7-AD96-791943326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3B7-FFDC-41CA-8E94-0F7BE46B9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C115-D8DA-4236-BE18-301594CD7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FFA-498C-41EC-B146-58CA3B422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946-D98B-43CC-A103-10F7B267D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3AA-36FE-4939-8261-34F45FAE7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657A-FF9B-4BED-B6AB-A6B6B2CE6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632-DBA3-4C55-A0B4-1C2CE4358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BD7-F4E7-44FF-9192-A585710C6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202-34B0-4116-B675-E15BB723F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CFA-8EAE-44C2-8F4C-7A0A8FF0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E03-BB15-46ED-98A6-E148DB1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D3D8D-3ED1-4B76-9033-786B7ABD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E1488-FB92-411F-B6D7-DCE29F28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F79F-F71C-4BF3-86BC-0F438CFC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5C98F-FDF6-484B-A540-EB88BDF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2C77-4134-42AE-A675-4690B46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065D-081A-45D3-B029-AF5F092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341A-4FE4-423B-AEAA-0A163ED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15BA6-F091-4FA0-9A7E-84FFD4A6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D7A8-F596-40D9-AD6B-8EFAF2CB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B63-4054-4262-95A4-261895F1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A1C-54FC-436F-A09E-00BA4792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15F1-2076-48C2-AE14-45192FBC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35B-D5D5-4C99-B322-3B679B3B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FFB3-B6A4-47CF-9BDA-4870758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E360-5385-416C-9E5F-F5891B23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83DF-E30C-4CE1-AC75-FD50F744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BB6-D01D-4388-9D94-81B9757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6FD-98A4-4051-A458-D56C5F5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3F9-6D7F-47A0-BC1F-3CCA21A7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A04-3A76-42D6-8692-C0923A3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DD1-8BAF-44DE-93B7-BEAA611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C0F7-098E-4BDA-9F89-D915303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8457-F342-41F4-BF01-5E60CBAB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2C5-7E64-45CB-BBED-AD8AD9C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5631-8931-449C-A57F-685E0601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A565-7152-4370-BCE3-1DF8728C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A373-7CF3-4D97-8E8F-F56F6A2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CB87-F80C-4BF6-A019-5629CBF3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B81A-0BF2-4689-AAFF-9811772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026-8CAD-49EE-88D0-8FA05749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631C-B479-4EBD-858F-4821A1C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7CC1-BE94-4271-A852-F3C025A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96BA-0A24-4FCF-B01D-638C1E4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070D-E212-4D56-A043-1503809C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C2F6-A3F2-4C30-803D-D493CBD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5ACD-BE44-40EC-BB06-C926EF33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9A72-0C65-4C23-B12D-CAF9E01C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31F4-B212-415B-BB20-FD16A5F7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4C04-BD70-4A80-8B16-5881BD7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0193-7353-4981-9CED-7B8F77B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20F-10C5-48BA-B940-5A08A91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DB93-67DC-40C8-9D87-0E6EDEF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79E4-0CCF-452A-8C49-1F4DB3A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6467-462D-4278-88B0-181C1B2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6916-2D12-4728-9BE9-E2168B7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8330-BCB9-4533-ADF5-3D3AFEA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AB0A-2686-47F7-A5A1-91F209F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4F87-B9D3-46C7-9067-C1CAD872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9E67-B2E5-46E7-BC3D-1841C8C9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1DD6-2B67-4AA2-8E03-BEF00CC3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8ED4-2703-431D-B9AF-F57FC0C6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8A1-FAF4-4E5C-AC93-5FA9BBD3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537D-2CD9-4619-8FC8-7EEEB2D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A853-9CB2-4A5D-8519-F824903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68B1B-4286-4899-AE96-6CC6281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3FBA-2B70-4CA4-BF65-4DCBAEC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2AE7-181A-405C-B1D4-83490A0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50FA-4165-4E74-A700-3D51C48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4FC3-252F-4987-A350-AB57908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ED9D-6717-4E67-BCDE-9ACE509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09D9-0F36-4B8F-B15B-B4692E4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CF32-7D20-4CAF-B50E-748B1B49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264-9DF9-4E10-8EEF-A8F8FDE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A73B-5C28-46A1-8E5A-59E752EC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58AE-7AD1-4A5C-AC78-E0DDD71A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52EF7-31EA-4837-9E8D-B8564EFF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559B-4283-482C-985E-69E3AC15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EEF6-FE16-49BC-BA7D-07F9F70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8DED-C4AB-428A-86BE-C893AD34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DD20-5BD5-4474-A423-C3DD0E8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F5B9-0BFD-4525-949A-E8837900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D9C39-F5CD-40B7-BF9C-CAB821B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5D65-BD2A-4CD3-9578-11B2C6F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FED-3F8C-427F-A850-C0A369C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FA68-9D78-437D-90C6-32D25EEE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45F0-C38C-49C4-A358-1410A162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060F9-E864-44E7-BBD8-E1873D47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9441-FDAF-4CFB-AE09-C97C0FC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8EB0-0A35-4EBB-AA94-32B9AFC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9307-9ECF-4E94-9D8C-CAB15B79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1415-A884-4503-A9C9-3B522CB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63ED-4A06-4656-B0B0-5F72B25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5D46-565C-49C5-B078-19EE6F0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0B8D-8A54-4D97-9092-86DADA9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AA5-2922-419A-BE58-2B2C199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A458-0FFE-43B2-AB26-E71A987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D146-4063-45CB-982E-9E6E597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E79F-E50E-4F29-85EA-FDE9F18D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7699-2557-4177-BD62-149105D0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8743-EE7D-42B6-97DE-6C0B413E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4B328-808A-45BD-96B7-A4052003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8DF2-E046-4649-AFB2-19531CE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3A71-7F3E-4E79-A59F-F972A06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2E64-3FBD-44F2-9EA6-4B41E7B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A4FA-B454-458C-918D-4FCF9B22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8F1-BA56-4406-9A8F-4C4C807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CB87-6E62-4DFD-B132-B8A9068F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6D328-F222-4578-9A14-900EB62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6E74-7F70-44B0-B05A-44CF137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A5AA6-EF76-499C-8BBA-8615D10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89B8-5D9B-468C-976C-91CF527E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E5ABF-73A5-4C57-A732-F38CE7F1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99F9-DC02-431F-9FCA-630823F1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93CD8-E105-4247-8AA8-6E397BF2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69F2F-750A-483C-BC70-B5EF8771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035A3-7258-4908-A63A-10D94670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9D3B-0E88-457E-BE80-44FDE4195D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012-9D55-4EF1-B76E-EAAB0DC086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E948-F510-4A15-B12C-929D18C5D8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53E-9A28-403E-BD85-7C487691D1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7D3-72FD-4D1D-B8D2-95065C2F51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0E93-D6C5-4FE4-9DE9-A789E47976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E68-40EC-49FC-8B14-2CDA994EC3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6AF-663A-450E-A30D-4C122D8092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5C9E-60A5-4261-9135-897A726531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Placeholder 4" descr="th_anaastro-1.jpg"/>
          <p:cNvPicPr/>
          <p:nvPr/>
        </p:nvPicPr>
        <p:blipFill>
          <a:blip r:embed="rId1"/>
          <a:stretch/>
        </p:blipFill>
        <p:spPr>
          <a:xfrm>
            <a:off x="817560" y="822240"/>
            <a:ext cx="2286000" cy="4316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3803760" y="1085760"/>
            <a:ext cx="4279680" cy="22431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62160" y="2971440"/>
            <a:ext cx="4190760" cy="35542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ennessee State Univers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DCI 5910 96/97/9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minar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all Semester, 200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ignment #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epared by: Ana Selb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1487160"/>
          </a:xfrm>
          <a:prstGeom prst="rect">
            <a:avLst/>
          </a:prstGeom>
          <a:ln w="0">
            <a:noFill/>
          </a:ln>
        </p:spPr>
      </p:pic>
      <p:pic>
        <p:nvPicPr>
          <p:cNvPr id="427" name="Adam28.wmv" descr=""/>
          <p:cNvPicPr/>
          <p:nvPr/>
        </p:nvPicPr>
        <p:blipFill>
          <a:blip r:embed="rId2"/>
          <a:stretch/>
        </p:blipFill>
        <p:spPr>
          <a:xfrm>
            <a:off x="1905120" y="18860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06584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0280" y="-36360"/>
            <a:ext cx="8620200" cy="1487160"/>
          </a:xfrm>
          <a:prstGeom prst="rect">
            <a:avLst/>
          </a:prstGeom>
          <a:ln w="0">
            <a:noFill/>
          </a:ln>
        </p:spPr>
      </p:pic>
      <p:pic>
        <p:nvPicPr>
          <p:cNvPr id="429" name="Adam27.wmv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68480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7480080" cy="1487160"/>
          </a:xfrm>
          <a:prstGeom prst="rect">
            <a:avLst/>
          </a:prstGeom>
          <a:ln w="0">
            <a:noFill/>
          </a:ln>
        </p:spPr>
      </p:pic>
      <p:pic>
        <p:nvPicPr>
          <p:cNvPr id="431" name="Adam29.wmv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16944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925120" cy="1212840"/>
          </a:xfrm>
          <a:prstGeom prst="rect">
            <a:avLst/>
          </a:prstGeom>
          <a:ln w="0">
            <a:noFill/>
          </a:ln>
        </p:spPr>
      </p:pic>
      <p:pic>
        <p:nvPicPr>
          <p:cNvPr id="433" name="Adam26.wmv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4160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25360" y="-36360"/>
            <a:ext cx="8699400" cy="1487160"/>
          </a:xfrm>
          <a:prstGeom prst="rect">
            <a:avLst/>
          </a:prstGeom>
          <a:ln w="0">
            <a:noFill/>
          </a:ln>
        </p:spPr>
      </p:pic>
      <p:pic>
        <p:nvPicPr>
          <p:cNvPr id="435" name="Adam30.wmv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23456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78000" y="4780080"/>
            <a:ext cx="8467560" cy="19746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nterview #2: Experienced Teach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3" descr="Adam30 _1__0001.jpg"/>
          <p:cNvPicPr/>
          <p:nvPr/>
        </p:nvPicPr>
        <p:blipFill>
          <a:blip r:embed="rId2"/>
          <a:stretch/>
        </p:blipFill>
        <p:spPr>
          <a:xfrm>
            <a:off x="3048120" y="14479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Adam32.wmv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905120" y="20574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0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22400" y="55440"/>
            <a:ext cx="9028080" cy="1114560"/>
          </a:xfrm>
          <a:prstGeom prst="rect">
            <a:avLst/>
          </a:prstGeom>
          <a:ln w="0">
            <a:noFill/>
          </a:ln>
        </p:spPr>
      </p:pic>
      <p:pic>
        <p:nvPicPr>
          <p:cNvPr id="415" name="Adam33.wmv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905120" y="18288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9568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-36360"/>
            <a:ext cx="8864640" cy="1487160"/>
          </a:xfrm>
          <a:prstGeom prst="rect">
            <a:avLst/>
          </a:prstGeom>
          <a:ln w="0">
            <a:noFill/>
          </a:ln>
        </p:spPr>
      </p:pic>
      <p:pic>
        <p:nvPicPr>
          <p:cNvPr id="417" name="Adam 21.wmv" descr=""/>
          <p:cNvPicPr/>
          <p:nvPr/>
        </p:nvPicPr>
        <p:blipFill>
          <a:blip r:embed="rId2"/>
          <a:stretch/>
        </p:blipFill>
        <p:spPr>
          <a:xfrm>
            <a:off x="2286000" y="204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1456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699400" cy="1487160"/>
          </a:xfrm>
          <a:prstGeom prst="rect">
            <a:avLst/>
          </a:prstGeom>
          <a:ln w="0">
            <a:noFill/>
          </a:ln>
        </p:spPr>
      </p:pic>
      <p:pic>
        <p:nvPicPr>
          <p:cNvPr id="419" name="Adam 22.wmv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487656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5376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98440" y="-36360"/>
            <a:ext cx="8778960" cy="1487160"/>
          </a:xfrm>
          <a:prstGeom prst="rect">
            <a:avLst/>
          </a:prstGeom>
          <a:ln w="0">
            <a:noFill/>
          </a:ln>
        </p:spPr>
      </p:pic>
      <p:pic>
        <p:nvPicPr>
          <p:cNvPr id="421" name="Adam23.wmv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0064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9407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7480440" cy="1487520"/>
          </a:xfrm>
          <a:prstGeom prst="rect">
            <a:avLst/>
          </a:prstGeom>
          <a:ln w="0">
            <a:noFill/>
          </a:ln>
        </p:spPr>
      </p:pic>
      <p:pic>
        <p:nvPicPr>
          <p:cNvPr id="423" name="Adam24.wmv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49352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0048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225360" y="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25" name="Adam25.wmv" descr=""/>
          <p:cNvPicPr/>
          <p:nvPr/>
        </p:nvPicPr>
        <p:blipFill>
          <a:blip r:embed="rId2"/>
          <a:stretch/>
        </p:blipFill>
        <p:spPr>
          <a:xfrm>
            <a:off x="2108160" y="1828800"/>
            <a:ext cx="478332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6864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09:44Z</dcterms:created>
  <dc:creator>Owner</dc:creator>
  <dc:description/>
  <dc:language>en-US</dc:language>
  <cp:lastModifiedBy>Owner</cp:lastModifiedBy>
  <dcterms:modified xsi:type="dcterms:W3CDTF">2008-10-23T02:02:18Z</dcterms:modified>
  <cp:revision>18</cp:revision>
  <dc:subject/>
  <dc:title>Slide 1</dc:title>
</cp:coreProperties>
</file>